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CAB-4B13-4D68-960E-E2F53213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1807-CAFF-443C-AF3A-9C445D2C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656-70DD-4A31-8B61-DC1D4A1F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B9C-F480-4249-8E8E-DA876E4E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2BD-EE1D-4052-BD6B-22D964D6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9AF-41F2-48F4-8D45-9E849DD0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480-BCB0-4ED8-B740-D68BB247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94F-F3AC-4C8F-82E3-62F5C65A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C39-64A8-4123-ADCC-7C09F87E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791-9F61-4919-9392-FE759B1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F66-FF0D-4AD8-9BA1-84E9515E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059-0FAC-401F-A016-2061C3E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37C2-E1BC-42DC-98ED-DA1C673E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uman" TargetMode="External"/><Relationship Id="rId2" Type="http://schemas.openxmlformats.org/officeDocument/2006/relationships/hyperlink" Target="http://en.wikipedia.org/wiki/Earth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babies will be born during this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in a 50 minute lesso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in a 50 minute lesso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3362400" cy="4924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3362400" cy="492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2900160" cy="4248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067280" y="1700280"/>
            <a:ext cx="2468520" cy="361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227640" y="1557360"/>
            <a:ext cx="1828800" cy="2678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48000" y="6381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m even less intelligent than G.W.B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there in the world at the mo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how many you think in the back of  your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incr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population also increase at 240 per min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incr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ies are born at about 240 per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people dying every minute must be __________ that number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relating to population incre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 number of people on the Earth continue to rise indefini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roblems with having loads of people on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34936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a list of the effect that the growth of our population has had on resources, land and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w question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a world wid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ews.bbc.co.uk/1/hi/world/europe/4768644.s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people have lots of bab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nn.com/2006/HEALTH/parenting/05/08/mothers.index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people in different countries try to limit the number of babies born per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altoninstitute.org.uk/Newsletters/GINL9105/Third_World_Aid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need an average of 2.1 babies per family WORLDWIDE to maintain a stable population – how are we going to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there in the world at the mo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1609560"/>
            <a:ext cx="60483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there in the world at the mo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otal number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uma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live on the plane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ar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t a given time. In early 2006, the world population reached 6.5 bill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 watch and learn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born every min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3:55:07Z</dcterms:created>
  <dc:creator>sthobbsc</dc:creator>
  <dc:description/>
  <dc:language>en-US</dc:language>
  <cp:lastModifiedBy>sthobbsc</cp:lastModifiedBy>
  <dcterms:modified xsi:type="dcterms:W3CDTF">2007-01-04T14:04:33Z</dcterms:modified>
  <cp:revision>5</cp:revision>
  <dc:subject/>
  <dc:title>How many babies will be born during this lesson?</dc:title>
</cp:coreProperties>
</file>